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42F-D2B3-46C6-BE5A-297BBEDA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E8CF-725A-4B62-B3AE-87E0B024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FFE-E998-4A27-BC15-7B721044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6180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0360" y="49968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24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6180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0360" y="3484800"/>
            <a:ext cx="1541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85B-FA19-4AC4-BABE-8C9825BF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5E8-6DDE-45CD-8FB4-9DFA9FE7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4C7-F905-4232-8017-FD343978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A13-A05D-47DD-B303-0D35E543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83A-BFA4-4E78-9BBA-CEFC963E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920" y="357120"/>
            <a:ext cx="3286080" cy="728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13FF-0451-4AD5-8080-6E22BA80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C86-8AF7-47FA-8D78-47D91935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95920" y="348480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B73-F663-4B30-98A1-F17668DB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24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95920" y="499680"/>
            <a:ext cx="23356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240" y="3484800"/>
            <a:ext cx="47865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82EE-A5F5-4BD5-B6C8-E344B81F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920" y="357120"/>
            <a:ext cx="3286080" cy="15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entury Schoolbook"/>
              </a:rPr>
              <a:t>Click to edit the title text format</a:t>
            </a:r>
            <a:endParaRPr b="1" lang="en-US" sz="36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240" y="499680"/>
            <a:ext cx="4786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3120" y="635652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E8CF-A224-4719-AFA8-45F980D2D502}" type="slidenum">
              <a:rPr b="1" lang="en-US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48;&#1089;&#1090;&#1086;&#1088;&#1080;&#1103;%20%20&#1074;&#1099;&#1095;&#1080;&#1089;&#1083;&#1080;&#1090;&#1077;&#1083;&#1100;&#1085;&#1086;&#1081;%20&#1090;&#1077;&#1093;&#1085;&#1080;&#1082;&#1080;.pptx" TargetMode="External"/><Relationship Id="rId3" Type="http://schemas.openxmlformats.org/officeDocument/2006/relationships/hyperlink" Target="file:///&#1055;&#1086;&#1082;&#1086;&#1083;&#1077;&#1085;&#1080;&#1103;%20&#1082;&#1086;&#1084;&#1087;&#1100;&#1102;&#1090;&#1077;&#1088;&#1086;&#1074;.ppt" TargetMode="External"/><Relationship Id="rId4" Type="http://schemas.openxmlformats.org/officeDocument/2006/relationships/hyperlink" Target="file:///&#1050;&#1086;&#1084;&#1087;&#1100;&#1102;&#1090;&#1077;&#1088;&#1085;&#1072;&#1103;%20&#1087;&#1072;&#1084;&#1103;&#1090;&#1100;.pptx" TargetMode="External"/><Relationship Id="rId5" Type="http://schemas.openxmlformats.org/officeDocument/2006/relationships/hyperlink" Target="file:///&#1055;&#1077;&#1088;&#1077;&#1092;&#1077;&#1080;&#1081;&#1085;&#1099;&#1077;%20&#1091;&#1089;&#1090;&#1088;&#1086;&#1081;&#1089;&#1090;&#1074;&#1072;%20&#1074;&#1074;&#1086;&#1076;&#1072;.ppt" TargetMode="External"/><Relationship Id="rId6" Type="http://schemas.openxmlformats.org/officeDocument/2006/relationships/hyperlink" Target="file:///&#1055;&#1077;&#1088;&#1077;&#1092;&#1077;&#1088;&#1080;&#1081;&#1085;&#1099;&#1077;%20&#1091;&#1089;&#1090;&#1088;&#1086;&#1081;&#1089;&#1090;&#1074;&#1072;%20&#1074;&#1099;&#1074;&#1086;&#1076;&#1072;.ppt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291600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Дорогу осилит идущий, а информатику мыслящий…</a:t>
            </a:r>
            <a:endParaRPr b="1" lang="en-US" sz="1800" spc="-1" strike="noStrike">
              <a:solidFill>
                <a:srgbClr val="c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920" y="1989000"/>
            <a:ext cx="3286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Arial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4356000" y="6206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504d"/>
                </a:solidFill>
                <a:latin typeface="Arial"/>
              </a:rPr>
              <a:t>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История вычислительной тех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Поколения компью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компоненты компьютера и их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Компьютерная пам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Периферийные устройства ввода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Периферийные устройства вывода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епление материала по теме «Основные компоненты компьютера и их функ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ст по теме «Компьютер как универсальное устройство обработки информац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2781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Компью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3068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к универса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342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стро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371628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ботки информац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6:28:25Z</dcterms:created>
  <dc:creator/>
  <dc:description/>
  <dc:language>en-US</dc:language>
  <cp:lastModifiedBy>Admin</cp:lastModifiedBy>
  <dcterms:modified xsi:type="dcterms:W3CDTF">2010-02-14T16:18:35Z</dcterms:modified>
  <cp:revision>16</cp:revision>
  <dc:subject/>
  <dc:title>Noteboo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11049</vt:lpwstr>
  </property>
</Properties>
</file>